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1C2-7AE8-43DB-8571-7B13C5DF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FC6-2425-4874-BCCB-132FD54F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A6C-452F-4E38-B582-B209A46D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377C-487D-4F9C-A379-4CF7551C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82C5-06D6-4396-82B1-8CE3941D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7AE9-DBAF-4E02-996A-E27A6916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FDDF-7BD8-47E1-B1BB-D9AB7FF0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F034-2807-4191-B2D6-0EA8A341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92EF-1DC8-4E08-8D2A-DB852AFD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DC7C-21AC-48C2-852B-A367EED4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0B92-8D0E-4C51-8E45-BB7E31E0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334-634C-40D3-B1CF-E0DBCDA7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C51C-F466-4124-98CC-CB7A4552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4212-D7B3-480A-9749-8BBD99A1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DC71-CAF9-4C3C-8F8F-407B9CD9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A342-CD55-4A8A-A1E0-030764FD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FD96-E925-40E7-90E6-606A57DD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A31E-082F-49F5-98F4-9CE20568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1EE3-B7E0-4FF1-8156-7FE6A18B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157F-0ACF-4A01-9E21-0195CDF6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7560-B5F6-4C88-A0A7-BFDA55E1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97CA-AA7A-4C2B-9D8F-7D63C0B5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46B-BF8C-4EBA-BAAB-56BF1479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9505-BA4B-423B-8D25-008DA3A3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2633-CBF1-4901-9504-30B1BDE1EDD9}" type="slidenum"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36DF-BAD0-408B-8770-ACCDC41C7F3E}" type="slidenum"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ating and Cooling Curv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85880" y="786240"/>
            <a:ext cx="7876440" cy="33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1523520"/>
            <a:ext cx="7693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 20.4 Cooling Curve of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            2                        3                    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Liqu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-liqui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quid-solid   solid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V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25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f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ge1:Gaseous water cools. Stage 2: Gaseous water condens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ge3: Liquid water cools. Stage4: Liquid water freezes Stage5: solid water c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1752480" y="28954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1752480" y="2895480"/>
            <a:ext cx="5791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1752480" y="5715000"/>
            <a:ext cx="5791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2286000" y="28954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3886200" y="28954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6019920" y="28954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>
            <a:off x="1752480" y="2895480"/>
            <a:ext cx="5335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7"/>
          <p:cNvSpPr/>
          <p:nvPr/>
        </p:nvSpPr>
        <p:spPr>
          <a:xfrm>
            <a:off x="2286000" y="3352680"/>
            <a:ext cx="16002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8"/>
          <p:cNvSpPr/>
          <p:nvPr/>
        </p:nvSpPr>
        <p:spPr>
          <a:xfrm>
            <a:off x="3886200" y="3352680"/>
            <a:ext cx="21337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6934320" y="28954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32"/>
          <p:cNvSpPr/>
          <p:nvPr/>
        </p:nvSpPr>
        <p:spPr>
          <a:xfrm>
            <a:off x="6019920" y="4952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3"/>
          <p:cNvSpPr/>
          <p:nvPr/>
        </p:nvSpPr>
        <p:spPr>
          <a:xfrm>
            <a:off x="7543800" y="28954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34"/>
          <p:cNvSpPr/>
          <p:nvPr/>
        </p:nvSpPr>
        <p:spPr>
          <a:xfrm>
            <a:off x="6934320" y="4952880"/>
            <a:ext cx="6094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35"/>
          <p:cNvSpPr/>
          <p:nvPr/>
        </p:nvSpPr>
        <p:spPr>
          <a:xfrm flipV="1">
            <a:off x="2895480" y="34286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7"/>
          <p:cNvSpPr/>
          <p:nvPr/>
        </p:nvSpPr>
        <p:spPr>
          <a:xfrm flipV="1">
            <a:off x="1981080" y="31237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8"/>
          <p:cNvSpPr/>
          <p:nvPr/>
        </p:nvSpPr>
        <p:spPr>
          <a:xfrm>
            <a:off x="495288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0"/>
          <p:cNvSpPr/>
          <p:nvPr/>
        </p:nvSpPr>
        <p:spPr>
          <a:xfrm flipH="1">
            <a:off x="228564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41"/>
          <p:cNvSpPr/>
          <p:nvPr/>
        </p:nvSpPr>
        <p:spPr>
          <a:xfrm>
            <a:off x="358128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42"/>
          <p:cNvSpPr/>
          <p:nvPr/>
        </p:nvSpPr>
        <p:spPr>
          <a:xfrm>
            <a:off x="2590920" y="4952880"/>
            <a:ext cx="218880" cy="763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43"/>
          <p:cNvSpPr/>
          <p:nvPr/>
        </p:nvSpPr>
        <p:spPr>
          <a:xfrm flipH="1">
            <a:off x="6019560" y="5410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44"/>
          <p:cNvSpPr/>
          <p:nvPr/>
        </p:nvSpPr>
        <p:spPr>
          <a:xfrm>
            <a:off x="6705720" y="5410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45"/>
          <p:cNvSpPr/>
          <p:nvPr/>
        </p:nvSpPr>
        <p:spPr>
          <a:xfrm>
            <a:off x="6172200" y="5410080"/>
            <a:ext cx="219240" cy="763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46"/>
          <p:cNvSpPr/>
          <p:nvPr/>
        </p:nvSpPr>
        <p:spPr>
          <a:xfrm>
            <a:off x="6477120" y="47242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47"/>
          <p:cNvSpPr/>
          <p:nvPr/>
        </p:nvSpPr>
        <p:spPr>
          <a:xfrm>
            <a:off x="7315200" y="4648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ating Curv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p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e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dded versu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useful in describing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han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tempera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 amount of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he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 substance as it undergoes a phase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Figure 20.3 for the heating curve for 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e at -25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to steam at 12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85880" y="786240"/>
            <a:ext cx="7876440" cy="33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69320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 20.3 Heating curve for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                                                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               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                      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       B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25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1752480" y="26668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1752480" y="26668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1752480" y="56386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9"/>
          <p:cNvSpPr/>
          <p:nvPr/>
        </p:nvSpPr>
        <p:spPr>
          <a:xfrm>
            <a:off x="6019920" y="26668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0"/>
          <p:cNvSpPr/>
          <p:nvPr/>
        </p:nvSpPr>
        <p:spPr>
          <a:xfrm flipV="1">
            <a:off x="1981080" y="5181480"/>
            <a:ext cx="76320" cy="533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21"/>
          <p:cNvSpPr/>
          <p:nvPr/>
        </p:nvSpPr>
        <p:spPr>
          <a:xfrm>
            <a:off x="2057400" y="5181480"/>
            <a:ext cx="4572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22"/>
          <p:cNvSpPr/>
          <p:nvPr/>
        </p:nvSpPr>
        <p:spPr>
          <a:xfrm flipV="1">
            <a:off x="2514600" y="3352680"/>
            <a:ext cx="60948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3124080" y="3352680"/>
            <a:ext cx="236232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4"/>
          <p:cNvSpPr/>
          <p:nvPr/>
        </p:nvSpPr>
        <p:spPr>
          <a:xfrm flipV="1">
            <a:off x="5486400" y="2895480"/>
            <a:ext cx="228600" cy="45720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85880" y="786240"/>
            <a:ext cx="7876440" cy="33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69320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 20.3 Heating curve for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                                                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               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       B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Line AB repres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25  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ice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heating of 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175248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1752480" y="28954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1752480" y="56386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20"/>
          <p:cNvSpPr/>
          <p:nvPr/>
        </p:nvSpPr>
        <p:spPr>
          <a:xfrm flipV="1">
            <a:off x="1981080" y="5181480"/>
            <a:ext cx="76320" cy="533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2057400" y="5181480"/>
            <a:ext cx="4572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22"/>
          <p:cNvSpPr/>
          <p:nvPr/>
        </p:nvSpPr>
        <p:spPr>
          <a:xfrm flipV="1">
            <a:off x="2514600" y="3352680"/>
            <a:ext cx="60948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>
            <a:off x="3200400" y="3352680"/>
            <a:ext cx="228600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 flipV="1">
            <a:off x="5486400" y="2895480"/>
            <a:ext cx="228600" cy="45720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 flipH="1" flipV="1">
            <a:off x="2057400" y="5410080"/>
            <a:ext cx="53352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85880" y="786240"/>
            <a:ext cx="7876440" cy="33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69320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 20.3 Heating curve for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                                                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               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     Melting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 BC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ce&amp;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       B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presents mel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25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1752480" y="26668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1752480" y="56386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6019920" y="26668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 flipV="1">
            <a:off x="1981080" y="5181120"/>
            <a:ext cx="7632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057400" y="5181480"/>
            <a:ext cx="4572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 flipV="1">
            <a:off x="2514600" y="3352680"/>
            <a:ext cx="60948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>
            <a:off x="3124080" y="3352680"/>
            <a:ext cx="236232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 flipV="1">
            <a:off x="5486400" y="2895480"/>
            <a:ext cx="228600" cy="45720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1981080" y="4800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6"/>
          <p:cNvSpPr/>
          <p:nvPr/>
        </p:nvSpPr>
        <p:spPr>
          <a:xfrm>
            <a:off x="1752480" y="26668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85880" y="786240"/>
            <a:ext cx="7876440" cy="33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69320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 20.3 Heating curve for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                                                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               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                           Liquid water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 CD repres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itional he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       B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 temp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25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175248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1752480" y="28954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1752480" y="56386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V="1">
            <a:off x="1981080" y="5181120"/>
            <a:ext cx="7632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057400" y="5181480"/>
            <a:ext cx="4572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V="1">
            <a:off x="2514600" y="3352680"/>
            <a:ext cx="60948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>
            <a:off x="3124080" y="3352680"/>
            <a:ext cx="236232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 flipV="1">
            <a:off x="5486400" y="2895480"/>
            <a:ext cx="228600" cy="45720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25"/>
          <p:cNvSpPr/>
          <p:nvPr/>
        </p:nvSpPr>
        <p:spPr>
          <a:xfrm flipH="1">
            <a:off x="2895480" y="4114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85880" y="786240"/>
            <a:ext cx="7876440" cy="33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69320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 20.3 Heating curve for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                                                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               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.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to gas                    line DE repres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The boiling of water 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       B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25  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175248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1752480" y="28954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2"/>
          <p:cNvSpPr/>
          <p:nvPr/>
        </p:nvSpPr>
        <p:spPr>
          <a:xfrm>
            <a:off x="1752480" y="56386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20"/>
          <p:cNvSpPr/>
          <p:nvPr/>
        </p:nvSpPr>
        <p:spPr>
          <a:xfrm flipV="1">
            <a:off x="1981080" y="5181480"/>
            <a:ext cx="76320" cy="533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2057400" y="5181480"/>
            <a:ext cx="4572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22"/>
          <p:cNvSpPr/>
          <p:nvPr/>
        </p:nvSpPr>
        <p:spPr>
          <a:xfrm flipV="1">
            <a:off x="2514600" y="3352680"/>
            <a:ext cx="60948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3"/>
          <p:cNvSpPr/>
          <p:nvPr/>
        </p:nvSpPr>
        <p:spPr>
          <a:xfrm>
            <a:off x="3200400" y="3352680"/>
            <a:ext cx="228600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4"/>
          <p:cNvSpPr/>
          <p:nvPr/>
        </p:nvSpPr>
        <p:spPr>
          <a:xfrm flipV="1">
            <a:off x="5486400" y="2895480"/>
            <a:ext cx="228600" cy="45720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5"/>
          <p:cNvSpPr/>
          <p:nvPr/>
        </p:nvSpPr>
        <p:spPr>
          <a:xfrm flipH="1" flipV="1">
            <a:off x="3657240" y="335232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85880" y="786240"/>
            <a:ext cx="7876440" cy="33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69320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 20.3 Heating curve for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                                                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               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.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ter vap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       B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25  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1752480" y="26668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1752480" y="28954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1752480" y="563868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0"/>
          <p:cNvSpPr/>
          <p:nvPr/>
        </p:nvSpPr>
        <p:spPr>
          <a:xfrm flipV="1">
            <a:off x="1981080" y="5181480"/>
            <a:ext cx="76320" cy="533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1"/>
          <p:cNvSpPr/>
          <p:nvPr/>
        </p:nvSpPr>
        <p:spPr>
          <a:xfrm>
            <a:off x="2057400" y="5181480"/>
            <a:ext cx="4572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22"/>
          <p:cNvSpPr/>
          <p:nvPr/>
        </p:nvSpPr>
        <p:spPr>
          <a:xfrm flipV="1">
            <a:off x="2514600" y="3352680"/>
            <a:ext cx="60948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>
            <a:off x="3124080" y="3352680"/>
            <a:ext cx="236232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 flipV="1">
            <a:off x="5486400" y="2895480"/>
            <a:ext cx="228600" cy="45720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5"/>
          <p:cNvSpPr/>
          <p:nvPr/>
        </p:nvSpPr>
        <p:spPr>
          <a:xfrm flipH="1" flipV="1">
            <a:off x="5715000" y="3124080"/>
            <a:ext cx="4572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oling Curv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s the change in temperature and the amount of heat during the cool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lope of the curve is decreasing when heat is removed from th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02:10:56Z</dcterms:created>
  <dc:creator>meynard love sirly</dc:creator>
  <dc:description/>
  <dc:language>en-US</dc:language>
  <cp:lastModifiedBy>jluckey</cp:lastModifiedBy>
  <dcterms:modified xsi:type="dcterms:W3CDTF">2012-11-06T00:59:32Z</dcterms:modified>
  <cp:revision>2</cp:revision>
  <dc:subject/>
  <dc:title>Heating and Cooling Curve</dc:title>
</cp:coreProperties>
</file>